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notesMasterIdLst>
    <p:notesMasterId r:id="rId17"/>
  </p:notes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  <p:sldId id="267" r:id="rId29"/>
    <p:sldId id="268" r:id="rId30"/>
    <p:sldId id="269" r:id="rId31"/>
    <p:sldId id="270" r:id="rId32"/>
    <p:sldId id="271" r:id="rId33"/>
    <p:sldId id="272" r:id="rId34"/>
    <p:sldId id="273" r:id="rId35"/>
    <p:sldId id="274" r:id="rId36"/>
    <p:sldId id="275" r:id="rId37"/>
    <p:sldId id="276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notesMaster" Target="notesMasters/notesMaster1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slide" Target="slides/slide12.xml"/><Relationship Id="rId30" Type="http://schemas.openxmlformats.org/officeDocument/2006/relationships/slide" Target="slides/slide13.xml"/><Relationship Id="rId31" Type="http://schemas.openxmlformats.org/officeDocument/2006/relationships/slide" Target="slides/slide14.xml"/><Relationship Id="rId32" Type="http://schemas.openxmlformats.org/officeDocument/2006/relationships/slide" Target="slides/slide15.xml"/><Relationship Id="rId33" Type="http://schemas.openxmlformats.org/officeDocument/2006/relationships/slide" Target="slides/slide16.xml"/><Relationship Id="rId34" Type="http://schemas.openxmlformats.org/officeDocument/2006/relationships/slide" Target="slides/slide17.xml"/><Relationship Id="rId35" Type="http://schemas.openxmlformats.org/officeDocument/2006/relationships/slide" Target="slides/slide18.xml"/><Relationship Id="rId36" Type="http://schemas.openxmlformats.org/officeDocument/2006/relationships/slide" Target="slides/slide19.xml"/><Relationship Id="rId37" Type="http://schemas.openxmlformats.org/officeDocument/2006/relationships/slide" Target="slides/slide20.xml"/><Relationship Id="rId38" Type="http://schemas.openxmlformats.org/officeDocument/2006/relationships/slide" Target="slides/slide21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dt" idx="3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 type="ftr" idx="3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6"/>
          <p:cNvSpPr>
            <a:spLocks noGrp="1"/>
          </p:cNvSpPr>
          <p:nvPr>
            <p:ph type="sldNum" idx="3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DD598-1460-469C-AE2F-5641761CA9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24BAF-FB3C-4576-B431-CB82F2C2E4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964EA-C323-48CC-B4F4-2A41279BC4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39009-ECDD-4D7A-A11C-C0265CA348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C543B-F95A-4452-B244-57654DDE63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F3547-25CC-4563-8F60-CD444093B1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0A07A-2931-4828-A4C5-FC5DA51AF4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D431A-E535-4AE9-9B68-E71BF4526C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877D1-5469-43C4-B1B5-2CF891A826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7CA3D-5467-4BCD-ACF2-BE1A168C86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083A2-6996-439D-9D03-299AC667B4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F2C49-5FA4-476F-B7DC-4534024266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BBA98-9C62-4E0F-9DAD-8475CFF834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57BB1-60B7-4889-A75F-2652164E40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3BE49-1F4B-4574-AAE5-2B2EFC01BB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3B9FB-1734-4B73-B2A6-8E4DF3E3DF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3E8D7-7668-42E3-8820-0992503FA0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3584E-7922-4607-82C8-16D17E6200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DA403-D4AC-497D-AFE5-CE1328BF3A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6B023-90E8-4169-AF16-E0E79B31BA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99B31-72DF-412F-99DA-7BFAC06B32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B0558-0C3D-46B5-B42C-85C41404ED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309CD2-647E-4180-A77A-B5268055E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FBC0B2-0B0C-40DA-9F0A-E0AF81DCC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0558F7-EB68-416E-A8E4-A7017C007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7A7B58-F477-4673-90B8-6BB38533F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E493D7-7808-44FD-A54F-8B209C56B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641070-0428-4FC8-BF7C-F022952FE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8AA3DA-6D83-46B7-B2CF-ED4AE359A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3964C2-13D6-4868-A0D6-462802896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6B0066-DC03-4D42-ABB1-D1E11B9F9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B566C7-835A-4211-92F5-B16938210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932EAE-5A98-4EEC-AE11-4F2F1FEEB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C3E5CC-CC3F-4739-AE7E-0809A0D42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934A95-D0DF-41B1-8DAE-8598E4699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AFB6EC-2AA4-40F9-99C6-A62FAF5A6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C48314-F3EB-44D1-B94D-A05984404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111485-00A5-405B-AD90-2EF0A53F8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12E3AA-D259-44CD-B367-1DC4136D2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1FAA62-DB0D-4FD6-8692-175018697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D0DB5C-2ABF-4A7E-9596-54EFFD2FE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5F319D-7689-4288-A78E-ABC58131B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A0EF46-D808-487A-B3CB-03E885082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82698E-2ED6-4884-8DB7-10F397C5C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C334F9-0244-4487-9C87-FF7E3E6C7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22A1B5-8536-4016-AF72-4C12C7D12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F54EB5-6173-4AE7-8BC2-14E4C308E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9FB59D-81CA-40AE-9F94-100EBD3C9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3629D4-16DB-4C15-A103-EE822A6E4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1DC84E-E6E5-4BEC-AFC7-D9611E8E5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4CC68C-DFDE-49B2-AE26-11F303B28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65489A-1D1F-403C-9D5B-5C049F21D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A1A15-5845-4AA5-8C75-9A5F46529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ADB3A0-340E-48CB-8E09-BBF530634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CFE0E4-C6B9-4113-92DC-088A86F94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45E6EA-0CFA-4DBB-81E1-61D97F38B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991F0B-60A7-4D01-B775-FBF140FAF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38BC8D-65F5-4120-A70D-DF156F0C2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89B504-B3F1-42ED-96F9-BD4D84263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C30CBE-1BE1-4337-8059-A5E3D2DB3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9B241D-EFB6-42AC-9478-1A2777CDD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BA3BC9-C1D9-49F7-AE4A-77EEE10C0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12FA56-1BDD-4E2F-BAFC-9C12B6ABC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B217D-7C29-4D83-86BE-B9FB6C869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8E5F2F-4554-4AE4-A29C-A8E81EB17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3CB3DA-24FF-4C47-AD75-4FB9EBC0A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A6C704-FBC2-458B-8250-4BF10E34A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703327-A14C-49BF-B619-FE18B9CE8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797F33-9009-4AE9-847A-B880CE8A6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9CD7E7-97E9-4E8A-99FB-C70604DEB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B27480-B673-4D22-B265-171CB329D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2C1DB0-10C2-42E9-84DA-813AC1661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AD4818-DB61-4CF0-81C9-7B1DC0796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3C55C1-F73A-458D-8C72-92C75DDB7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0C991-C491-43A7-B6B1-AF87D5C61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FD580A-A680-44E6-8478-37C06AF08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684074-BC92-485C-8E9D-39118EAAE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8D631D-F6EA-4E7E-B48D-C6A029AF0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D3ED0F-BC83-46B3-89C4-D5000B2DF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BBB0DB-6A47-4539-B304-F666D6303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C73BDE-C4F2-45E3-8F9E-8FB1F1253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B7EF22-351C-4C48-AE2B-436777539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7725DE-C31A-4221-B631-B802AE5F7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BE51A6-671A-497C-98BF-4BC7FD918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7DFB84-B1EB-46AA-AED4-C1EE016FD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FF6D8-7690-4FF2-908C-068E35DE5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67C2C5-BA3A-4823-B04B-2BDAAFF86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2F192E-061B-4186-A74B-7724DF686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E7088F-62F6-44B9-ADAD-77141821B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6119AA-3541-4F67-9B36-3218079AC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E06075-536E-4551-80EF-2BC434046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5AB5B9-FC77-40BB-BBBE-7A0F915D8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5DC7ED-1F92-4371-876F-1E36F6215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166C44-F62E-4295-87C5-848C7C5B4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D85276-21EA-4F9D-8478-C99D1DF9E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62D6B2-E496-4FE6-8E98-971DBC3D1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A3610-42E0-4D93-AD2C-C0B10371B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592F76-067F-4B10-B395-81522B8EE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377A2E-8031-43D4-8096-E80F28883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9C79C2-B746-443E-AE41-A73E4EA62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C52940-8850-4672-B3F5-ED7B31B20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5C5BC8-9144-433B-B7E6-5C1528F7D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D0FD35-1785-45FA-A6D5-843D86B50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2AF96C-C450-40E2-A22A-6C0072393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996F0C-3332-45CD-ACB4-F757EB8FC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8C5A35-47B8-41EC-BABB-89972EC32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DE998F-0D27-4D87-BF26-5CC29E1E1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68697-7C71-4590-92BB-88ECDBBB4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B1F721-53C3-49E7-A650-5537562B7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85DF0-4BE6-40FD-9B82-503C43243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A1217-BCF5-4A22-B78F-E5D6F8AE3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32216-909A-43F4-936A-1201A4211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85493-38F1-4133-A689-7F82D241E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F1C25-49CA-4D1D-94CE-96F7860BE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922AC-BEB7-4592-9F71-6330BBA4E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69EA9-167A-48E8-858D-F6F5CABE7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51C8C-DA26-4F2B-8353-C8730E56E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66B0D-FBCC-4AF7-8AD3-49D99BC00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0AD8F-55D5-4713-85A5-2EF07C900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669E8-DEB7-4758-B8E7-B64341DA8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4C3B5-A2B4-49B8-B7E8-8035BA86E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49B56-5963-4117-89D7-199C37BC3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053E2-19A5-42E1-BCC6-7F923A13C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0CC5F-5280-4777-B872-02B996F88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AA495-D7F3-4ED2-8F56-19EAA26A9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8CD93-D2E4-455C-A345-90DD219A9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18AF8-D870-4A85-BD21-D8F298108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3D8214-1ABD-4884-B449-AB6BC375A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84E34B-2EA0-4824-BF1B-6768E187E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362175-1EE2-4C3F-8045-E92A671D4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F3942D-170B-474D-BBDD-1D2D6BDDC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442FB1-9FD9-4448-ADFB-CCAA8BB97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A5A712-D344-47DA-AF5D-11F94F63F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199ACD-E457-4131-B18E-E8753F841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A2A690-22C7-42A5-A507-D2C4C61D2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882359-9E4A-412C-8451-7F57F20BE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C51C8F-5B6B-498F-B84C-462FE0EE8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A65B31-20EA-496C-9A1A-9029399D7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E8636D-4FBC-46E8-845F-1B54CABEF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5A0CCD-28F4-46DC-9CD9-40BF1CEE2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A53F03-6779-4BB5-906B-1179549DE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0997A0-7B00-4936-8D93-DEBF3B137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05A328-11D7-42CA-B519-4DAC656FA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19885D-D3D2-4932-ACAF-C0EF7ADB8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9B7189-9C5D-41E1-9C4B-31226A246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9FA214-0B3C-45C1-9E98-53E98FF52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F75255-0FE7-484D-8ABC-46DC11E85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80D960-0119-4BB0-A14A-185EC6FBA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14F280-2E1F-4324-AB56-C1E508AB6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40ADC7-377B-4F60-BE2B-DBF22B0C6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2F715C-6F31-4BC0-9394-67385FA25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17B4A7-1851-45DE-BAB8-301745CC3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D181FC-3ECF-4076-AA4A-5304EBF97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AE784E-A9B4-4FA6-B58F-7CF4A0C57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B9B034-5448-4516-AF11-5FEFA64A6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9D994D-C376-4ADB-B304-61C735921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5BA7DF-0B03-4602-9B10-63428A971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CC80A2-C295-4D5E-A966-8B79F6EEA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73A1D5-AB2B-4DB0-AC63-F1490CFF1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67448B-2089-4170-BC80-D510E6493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0E3FF2-E30E-4B3C-BB70-A714381BC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6FD1C8-97AD-4DF0-83CF-8B9620D7F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C25BDF-4A50-4F8E-B16C-2467A785D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45B767-CB0F-4947-B677-3BFA3EAF5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87F888-A65A-4A3B-A2EF-1C360A1EC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88DE02-9408-4774-9133-707458296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2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Text Box 13"/>
          <p:cNvSpPr/>
          <p:nvPr/>
        </p:nvSpPr>
        <p:spPr>
          <a:xfrm>
            <a:off x="59760" y="6539040"/>
            <a:ext cx="12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84b81"/>
                </a:solidFill>
                <a:latin typeface="Arial"/>
              </a:rPr>
              <a:t>Wilson et al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15"/>
          <p:cNvSpPr/>
          <p:nvPr/>
        </p:nvSpPr>
        <p:spPr>
          <a:xfrm>
            <a:off x="3509640" y="654516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AGU Talk, Dec. 17,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7"/>
          <p:cNvSpPr/>
          <p:nvPr/>
        </p:nvSpPr>
        <p:spPr>
          <a:xfrm>
            <a:off x="7705440" y="6553080"/>
            <a:ext cx="99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8E1BA-43BC-467D-89FA-4A863688AA55}" type="slidenum">
              <a:rPr b="0" lang="en-US" sz="1400" spc="-1" strike="noStrike">
                <a:solidFill>
                  <a:srgbClr val="184b8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CCD57-39FA-49AB-AD3F-0DC3D2F0267E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06FB1-0DDA-4CB4-B4E4-DE9C4352D13E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93F7F-2BA6-4921-8D1F-10FE6011F53E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0195C-5ADA-4FF4-9D09-6395F32ECD72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752D9-70AF-4CFA-9BB6-8B2B2EB42CC9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2791B-D299-4412-A7F4-284B3F6EF645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ilson</a:t>
            </a:r>
            <a:r>
              <a:rPr b="0" i="1" lang="en-US" sz="1200" spc="-1" strike="noStrike">
                <a:solidFill>
                  <a:srgbClr val="898989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et 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AGU, San Francisco, Dec. 16,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AF8CD-AFCE-47B5-8396-5D01C331883A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12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82" name="Text Box 13"/>
          <p:cNvSpPr/>
          <p:nvPr/>
        </p:nvSpPr>
        <p:spPr>
          <a:xfrm>
            <a:off x="59760" y="6539040"/>
            <a:ext cx="12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84b81"/>
                </a:solidFill>
                <a:latin typeface="Arial"/>
              </a:rPr>
              <a:t>Wilson et al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5"/>
          <p:cNvSpPr/>
          <p:nvPr/>
        </p:nvSpPr>
        <p:spPr>
          <a:xfrm>
            <a:off x="3509640" y="654516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AGU Talk, Dec. 17,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7"/>
          <p:cNvSpPr/>
          <p:nvPr/>
        </p:nvSpPr>
        <p:spPr>
          <a:xfrm>
            <a:off x="7705440" y="6553080"/>
            <a:ext cx="99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1390C-961B-427D-B05D-DA4FFFC691D3}" type="slidenum">
              <a:rPr b="0" lang="en-US" sz="1400" spc="-1" strike="noStrike">
                <a:solidFill>
                  <a:srgbClr val="184b8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5"/>
          <p:cNvSpPr/>
          <p:nvPr/>
        </p:nvSpPr>
        <p:spPr>
          <a:xfrm>
            <a:off x="3039840" y="6553080"/>
            <a:ext cx="29422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030a0"/>
                </a:solidFill>
                <a:latin typeface="Arial"/>
              </a:rPr>
              <a:t>ESIP Federation Talk, July 8,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12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13"/>
          <p:cNvSpPr/>
          <p:nvPr/>
        </p:nvSpPr>
        <p:spPr>
          <a:xfrm>
            <a:off x="59760" y="6539040"/>
            <a:ext cx="12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84b81"/>
                </a:solidFill>
                <a:latin typeface="Arial"/>
              </a:rPr>
              <a:t>Wilson et al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5"/>
          <p:cNvSpPr/>
          <p:nvPr/>
        </p:nvSpPr>
        <p:spPr>
          <a:xfrm>
            <a:off x="3509640" y="654516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AGU Talk, Dec. 17,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7"/>
          <p:cNvSpPr/>
          <p:nvPr/>
        </p:nvSpPr>
        <p:spPr>
          <a:xfrm>
            <a:off x="7705440" y="6553080"/>
            <a:ext cx="99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2EDFA-6E0F-4876-B1BA-7B638C6F29B5}" type="slidenum">
              <a:rPr b="0" lang="en-US" sz="1400" spc="-1" strike="noStrike">
                <a:solidFill>
                  <a:srgbClr val="184b8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5"/>
          <p:cNvSpPr/>
          <p:nvPr/>
        </p:nvSpPr>
        <p:spPr>
          <a:xfrm>
            <a:off x="3039840" y="6553080"/>
            <a:ext cx="29422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030a0"/>
                </a:solidFill>
                <a:latin typeface="Arial"/>
              </a:rPr>
              <a:t>ESIP Federation Talk, July 8,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5D4B1-13E2-4537-A142-CECFB9EAD783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6DFED-6A5E-40B8-9DFD-2DAB3CD76206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C7F12-FC08-4EFF-9D84-827E4925BE9D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2FA94-2D6F-4346-90F1-04D1FA96712E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CD934-5D94-4E6C-AD82-1A8CF0E93DF8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3" name="Picture 2" descr=""/>
          <p:cNvPicPr/>
          <p:nvPr/>
        </p:nvPicPr>
        <p:blipFill>
          <a:blip r:embed="rId1">
            <a:lum contrast="10000"/>
          </a:blip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f"/>
                </a:solidFill>
                <a:latin typeface="Arial"/>
              </a:rPr>
              <a:t>“</a:t>
            </a:r>
            <a:r>
              <a:rPr b="1" lang="en-US" sz="3600" spc="-1" strike="noStrike">
                <a:solidFill>
                  <a:srgbClr val="0000cf"/>
                </a:solidFill>
                <a:latin typeface="Arial"/>
              </a:rPr>
              <a:t>Practical” Provenance</a:t>
            </a:r>
            <a:br>
              <a:rPr sz="3600"/>
            </a:br>
            <a:r>
              <a:rPr b="1" lang="en-US" sz="3600" spc="-1" strike="noStrike">
                <a:solidFill>
                  <a:srgbClr val="0000cf"/>
                </a:solidFill>
                <a:latin typeface="Arial"/>
              </a:rPr>
              <a:t>Using SciFlo Workflo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Rectangle 4"/>
          <p:cNvSpPr/>
          <p:nvPr/>
        </p:nvSpPr>
        <p:spPr>
          <a:xfrm>
            <a:off x="284040" y="5410080"/>
            <a:ext cx="3983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04a84"/>
                </a:solidFill>
                <a:latin typeface="Arial"/>
              </a:rPr>
              <a:t>Brian Wil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04a84"/>
                </a:solidFill>
                <a:latin typeface="Arial"/>
              </a:rPr>
              <a:t>Gerald Manipon and Hook Hu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04a84"/>
                </a:solidFill>
                <a:latin typeface="Arial"/>
              </a:rPr>
              <a:t>Jet Propulsion Laborato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Text Box 2"/>
          <p:cNvSpPr/>
          <p:nvPr/>
        </p:nvSpPr>
        <p:spPr>
          <a:xfrm>
            <a:off x="6561720" y="136692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Rounded MT Bold"/>
              </a:rPr>
              <a:t>Carbon Cyc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Text Box 3"/>
          <p:cNvSpPr/>
          <p:nvPr/>
        </p:nvSpPr>
        <p:spPr>
          <a:xfrm>
            <a:off x="762120" y="998640"/>
            <a:ext cx="7931160" cy="414648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2280" bIns="0" anchor="t">
            <a:spAutoFit/>
          </a:bodyPr>
          <a:p>
            <a:pPr marL="262080" indent="-262080">
              <a:buClr>
                <a:srgbClr val="333399"/>
              </a:buClr>
              <a:buSzPct val="60000"/>
              <a:buFont typeface="Zapf Dingbat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Debugging production (instrument drift, algorithm bu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36520">
              <a:lnSpc>
                <a:spcPct val="100000"/>
              </a:lnSpc>
              <a:buClr>
                <a:srgbClr val="333399"/>
              </a:buClr>
              <a:buSzPct val="60000"/>
              <a:buFont typeface="Zapf Dingbat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data granule caused a production failur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36520">
              <a:lnSpc>
                <a:spcPct val="100000"/>
              </a:lnSpc>
              <a:buClr>
                <a:srgbClr val="333399"/>
              </a:buClr>
              <a:buSzPct val="60000"/>
              <a:buFont typeface="Zapf Dingbat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executable version yielded “dubious” product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36520">
              <a:lnSpc>
                <a:spcPct val="100000"/>
              </a:lnSpc>
              <a:buClr>
                <a:srgbClr val="333399"/>
              </a:buClr>
              <a:buSzPct val="60000"/>
              <a:buFont typeface="Zapf Dingbat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buClr>
                <a:srgbClr val="333399"/>
              </a:buClr>
              <a:buSzPct val="60000"/>
              <a:buFont typeface="Zapf Dingbat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Traceable sc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36520">
              <a:lnSpc>
                <a:spcPct val="100000"/>
              </a:lnSpc>
              <a:buClr>
                <a:srgbClr val="333399"/>
              </a:buClr>
              <a:buSzPct val="60000"/>
              <a:buFont typeface="Zapf Dingbat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data observed a climate event/anomal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36520">
              <a:lnSpc>
                <a:spcPct val="100000"/>
              </a:lnSpc>
              <a:buClr>
                <a:srgbClr val="333399"/>
              </a:buClr>
              <a:buSzPct val="60000"/>
              <a:buFont typeface="Zapf Dingbat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data contributed to analysis of a climate trend?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buClr>
                <a:srgbClr val="333399"/>
              </a:buClr>
              <a:buSzPct val="60000"/>
              <a:buFont typeface="Zapf Dingbat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Reproducible sc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36520">
              <a:lnSpc>
                <a:spcPct val="100000"/>
              </a:lnSpc>
              <a:buClr>
                <a:srgbClr val="333399"/>
              </a:buClr>
              <a:buSzPct val="60000"/>
              <a:buFont typeface="Zapf Dingbat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-generate the science analysis years la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36520">
              <a:lnSpc>
                <a:spcPct val="100000"/>
              </a:lnSpc>
              <a:buClr>
                <a:srgbClr val="333399"/>
              </a:buClr>
              <a:buSzPct val="60000"/>
              <a:buFont typeface="Zapf Dingbat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llow peer reviewers to reproduce and vary the science analysis by executing the workfl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buClr>
                <a:srgbClr val="333399"/>
              </a:buClr>
              <a:buSzPct val="60000"/>
              <a:buFont typeface="Zapf Dingbat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Text Box 4"/>
          <p:cNvSpPr/>
          <p:nvPr/>
        </p:nvSpPr>
        <p:spPr>
          <a:xfrm>
            <a:off x="638280" y="82440"/>
            <a:ext cx="824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f"/>
                </a:solidFill>
                <a:latin typeface="Arial"/>
              </a:rPr>
              <a:t>Uses of Proven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Text Box 2"/>
          <p:cNvSpPr/>
          <p:nvPr/>
        </p:nvSpPr>
        <p:spPr>
          <a:xfrm>
            <a:off x="6561720" y="136692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Rounded MT Bold"/>
              </a:rPr>
              <a:t>Carbon Cyc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Text Box 3"/>
          <p:cNvSpPr/>
          <p:nvPr/>
        </p:nvSpPr>
        <p:spPr>
          <a:xfrm>
            <a:off x="792000" y="836640"/>
            <a:ext cx="7931160" cy="506088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2280" bIns="0" anchor="t">
            <a:spAutoFit/>
          </a:bodyPr>
          <a:p>
            <a:pPr marL="262080" indent="-262080">
              <a:buClr>
                <a:srgbClr val="333399"/>
              </a:buClr>
              <a:buSzPct val="60000"/>
              <a:buFont typeface="Zapf Dingbat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Two Approach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36520">
              <a:lnSpc>
                <a:spcPct val="100000"/>
              </a:lnSpc>
              <a:buClr>
                <a:srgbClr val="333399"/>
              </a:buClr>
              <a:buSzPct val="60000"/>
              <a:buFont typeface="Zapf Dingbat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buClr>
                <a:srgbClr val="333399"/>
              </a:buClr>
              <a:buSzPct val="60000"/>
              <a:buFont typeface="Zapf Dingbat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Instrument the Production Scri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36520">
              <a:lnSpc>
                <a:spcPct val="100000"/>
              </a:lnSpc>
              <a:buClr>
                <a:srgbClr val="333399"/>
              </a:buClr>
              <a:buSzPct val="60000"/>
              <a:buFont typeface="Zapf Dingbat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ll out to ‘provenance capture’ API to record meta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36520">
              <a:lnSpc>
                <a:spcPct val="100000"/>
              </a:lnSpc>
              <a:buClr>
                <a:srgbClr val="333399"/>
              </a:buClr>
              <a:buSzPct val="60000"/>
              <a:buFont typeface="Zapf Dingbat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uld be web service c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36520">
              <a:lnSpc>
                <a:spcPct val="100000"/>
              </a:lnSpc>
              <a:buClr>
                <a:srgbClr val="333399"/>
              </a:buClr>
              <a:buSzPct val="60000"/>
              <a:buFont typeface="Zapf Dingbat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trus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36520">
              <a:lnSpc>
                <a:spcPct val="100000"/>
              </a:lnSpc>
              <a:buClr>
                <a:srgbClr val="333399"/>
              </a:buClr>
              <a:buSzPct val="60000"/>
              <a:buFont typeface="Zapf Dingbat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nly retain what you explicitly s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36520">
              <a:lnSpc>
                <a:spcPct val="100000"/>
              </a:lnSpc>
              <a:buClr>
                <a:srgbClr val="333399"/>
              </a:buClr>
              <a:buSzPct val="60000"/>
              <a:buFont typeface="Zapf Dingbat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36520">
              <a:lnSpc>
                <a:spcPct val="100000"/>
              </a:lnSpc>
              <a:buClr>
                <a:srgbClr val="333399"/>
              </a:buClr>
              <a:buSzPct val="60000"/>
              <a:buFont typeface="Zapf Dingbat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buClr>
                <a:srgbClr val="333399"/>
              </a:buClr>
              <a:buSzPct val="60000"/>
              <a:buFont typeface="Zapf Dingbat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Use Formal Workflow for P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36520">
              <a:lnSpc>
                <a:spcPct val="100000"/>
              </a:lnSpc>
              <a:buClr>
                <a:srgbClr val="333399"/>
              </a:buClr>
              <a:buSzPct val="60000"/>
              <a:buFont typeface="Zapf Dingbat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nnotated workflow document contains proven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36520">
              <a:lnSpc>
                <a:spcPct val="100000"/>
              </a:lnSpc>
              <a:buClr>
                <a:srgbClr val="333399"/>
              </a:buClr>
              <a:buSzPct val="60000"/>
              <a:buFont typeface="Zapf Dingbat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ersions of opera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36520">
              <a:lnSpc>
                <a:spcPct val="100000"/>
              </a:lnSpc>
              <a:buClr>
                <a:srgbClr val="333399"/>
              </a:buClr>
              <a:buSzPct val="60000"/>
              <a:buFont typeface="Zapf Dingbat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eb service endpoi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36520">
              <a:lnSpc>
                <a:spcPct val="100000"/>
              </a:lnSpc>
              <a:buClr>
                <a:srgbClr val="333399"/>
              </a:buClr>
              <a:buSzPct val="60000"/>
              <a:buFont typeface="Zapf Dingbat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termediate &amp; final results, or pointers to th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36520">
              <a:lnSpc>
                <a:spcPct val="100000"/>
              </a:lnSpc>
              <a:buClr>
                <a:srgbClr val="333399"/>
              </a:buClr>
              <a:buSzPct val="60000"/>
              <a:buFont typeface="Zapf Dingbat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links to limit combinatorial explo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36520">
              <a:lnSpc>
                <a:spcPct val="100000"/>
              </a:lnSpc>
              <a:buClr>
                <a:srgbClr val="333399"/>
              </a:buClr>
              <a:buSzPct val="60000"/>
              <a:buFont typeface="Zapf Dingbat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orkflow points to entire provenance, if URI’s are perman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buClr>
                <a:srgbClr val="333399"/>
              </a:buClr>
              <a:buSzPct val="60000"/>
              <a:buFont typeface="Zapf Dingbat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Text Box 4"/>
          <p:cNvSpPr/>
          <p:nvPr/>
        </p:nvSpPr>
        <p:spPr>
          <a:xfrm>
            <a:off x="1049400" y="82440"/>
            <a:ext cx="809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f"/>
                </a:solidFill>
                <a:latin typeface="Arial"/>
              </a:rPr>
              <a:t>Provenance in Production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Text Box 2"/>
          <p:cNvSpPr/>
          <p:nvPr/>
        </p:nvSpPr>
        <p:spPr>
          <a:xfrm>
            <a:off x="6561720" y="136692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Rounded MT Bold"/>
              </a:rPr>
              <a:t>Carbon Cyc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Text Box 3"/>
          <p:cNvSpPr/>
          <p:nvPr/>
        </p:nvSpPr>
        <p:spPr>
          <a:xfrm>
            <a:off x="792000" y="698400"/>
            <a:ext cx="7931160" cy="548748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2280" bIns="0" anchor="t">
            <a:spAutoFit/>
          </a:bodyPr>
          <a:p>
            <a:pPr marL="262080" indent="-262080">
              <a:buClr>
                <a:srgbClr val="333399"/>
              </a:buClr>
              <a:buSzPct val="60000"/>
              <a:buFont typeface="Zapf Dingbat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Chain of provenance is a directed graph linking inputs, processors with configuration, &amp; computed outpu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buClr>
                <a:srgbClr val="333399"/>
              </a:buClr>
              <a:buSzPct val="60000"/>
              <a:buFont typeface="Zapf Dingbat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buClr>
                <a:srgbClr val="333399"/>
              </a:buClr>
              <a:buSzPct val="60000"/>
              <a:buFont typeface="Zapf Dingbat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Saving the graph (replicas of resourc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262080">
              <a:lnSpc>
                <a:spcPct val="100000"/>
              </a:lnSpc>
              <a:buClr>
                <a:srgbClr val="333399"/>
              </a:buClr>
              <a:buSzPct val="60000"/>
              <a:buFont typeface="Zapf Dingbat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llet pro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262080">
              <a:lnSpc>
                <a:spcPct val="100000"/>
              </a:lnSpc>
              <a:buClr>
                <a:srgbClr val="333399"/>
              </a:buClr>
              <a:buSzPct val="60000"/>
              <a:buFont typeface="Zapf Dingbat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unnecessary dupl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262080">
              <a:lnSpc>
                <a:spcPct val="100000"/>
              </a:lnSpc>
              <a:buClr>
                <a:srgbClr val="333399"/>
              </a:buClr>
              <a:buSzPct val="60000"/>
              <a:buFont typeface="Zapf Dingbat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binatorial explo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262080">
              <a:lnSpc>
                <a:spcPct val="100000"/>
              </a:lnSpc>
              <a:buClr>
                <a:srgbClr val="333399"/>
              </a:buClr>
              <a:buSzPct val="60000"/>
              <a:buFont typeface="Zapf Dingbat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buClr>
                <a:srgbClr val="333399"/>
              </a:buClr>
              <a:buSzPct val="60000"/>
              <a:buFont typeface="Zapf Dingbat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Saving the graph (links to  resourc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262080">
              <a:lnSpc>
                <a:spcPct val="100000"/>
              </a:lnSpc>
              <a:buClr>
                <a:srgbClr val="333399"/>
              </a:buClr>
              <a:buSzPct val="60000"/>
              <a:buFont typeface="Zapf Dingbat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venance graph is on the we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262080">
              <a:lnSpc>
                <a:spcPct val="100000"/>
              </a:lnSpc>
              <a:buClr>
                <a:srgbClr val="333399"/>
              </a:buClr>
              <a:buSzPct val="60000"/>
              <a:buFont typeface="Zapf Dingbat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links rot, so more frag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262080">
              <a:lnSpc>
                <a:spcPct val="100000"/>
              </a:lnSpc>
              <a:buClr>
                <a:srgbClr val="333399"/>
              </a:buClr>
              <a:buSzPct val="60000"/>
              <a:buFont typeface="Zapf Dingbat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buClr>
                <a:srgbClr val="333399"/>
              </a:buClr>
              <a:buSzPct val="60000"/>
              <a:buFont typeface="Zapf Dingbat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Importance of permanent names (simplifies proble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262080">
              <a:lnSpc>
                <a:spcPct val="100000"/>
              </a:lnSpc>
              <a:buClr>
                <a:srgbClr val="333399"/>
              </a:buClr>
              <a:buSzPct val="60000"/>
              <a:buFont typeface="Zapf Dingbat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ermanent names under-used on the we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262080">
              <a:lnSpc>
                <a:spcPct val="100000"/>
              </a:lnSpc>
              <a:buClr>
                <a:srgbClr val="333399"/>
              </a:buClr>
              <a:buSzPct val="60000"/>
              <a:buFont typeface="Zapf Dingbat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RL’s can be permanent, just poli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262080">
              <a:lnSpc>
                <a:spcPct val="100000"/>
              </a:lnSpc>
              <a:buClr>
                <a:srgbClr val="333399"/>
              </a:buClr>
              <a:buSzPct val="60000"/>
              <a:buFont typeface="Zapf Dingbat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venance system can guarantee perman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262080">
              <a:lnSpc>
                <a:spcPct val="100000"/>
              </a:lnSpc>
              <a:buClr>
                <a:srgbClr val="333399"/>
              </a:buClr>
              <a:buSzPct val="60000"/>
              <a:buFont typeface="Zapf Dingbat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lso could migrate to another system, e.g. X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buClr>
                <a:srgbClr val="333399"/>
              </a:buClr>
              <a:buSzPct val="60000"/>
              <a:buFont typeface="Zapf Dingbat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Text Box 4"/>
          <p:cNvSpPr/>
          <p:nvPr/>
        </p:nvSpPr>
        <p:spPr>
          <a:xfrm>
            <a:off x="609480" y="82440"/>
            <a:ext cx="8094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f"/>
                </a:solidFill>
                <a:latin typeface="Arial"/>
              </a:rPr>
              <a:t>Provenance 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Text Box 2"/>
          <p:cNvSpPr/>
          <p:nvPr/>
        </p:nvSpPr>
        <p:spPr>
          <a:xfrm>
            <a:off x="457200" y="673200"/>
            <a:ext cx="824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Rectangle 4"/>
          <p:cNvSpPr/>
          <p:nvPr/>
        </p:nvSpPr>
        <p:spPr>
          <a:xfrm>
            <a:off x="1600200" y="76320"/>
            <a:ext cx="7086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Example:  Subsetting Workf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8" name="Picture 2" descr=""/>
          <p:cNvPicPr/>
          <p:nvPr/>
        </p:nvPicPr>
        <p:blipFill>
          <a:blip r:embed="rId1"/>
          <a:stretch/>
        </p:blipFill>
        <p:spPr>
          <a:xfrm>
            <a:off x="152280" y="1170000"/>
            <a:ext cx="8839440" cy="2639880"/>
          </a:xfrm>
          <a:prstGeom prst="rect">
            <a:avLst/>
          </a:prstGeom>
          <a:ln w="0">
            <a:noFill/>
          </a:ln>
        </p:spPr>
      </p:pic>
      <p:sp>
        <p:nvSpPr>
          <p:cNvPr id="659" name="TextBox 7"/>
          <p:cNvSpPr/>
          <p:nvPr/>
        </p:nvSpPr>
        <p:spPr>
          <a:xfrm>
            <a:off x="2837880" y="685800"/>
            <a:ext cx="350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SR Granule Subset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0" name="Picture 3" descr=""/>
          <p:cNvPicPr/>
          <p:nvPr/>
        </p:nvPicPr>
        <p:blipFill>
          <a:blip r:embed="rId2"/>
          <a:stretch/>
        </p:blipFill>
        <p:spPr>
          <a:xfrm>
            <a:off x="182520" y="4078440"/>
            <a:ext cx="8732880" cy="201744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Text Box 2"/>
          <p:cNvSpPr/>
          <p:nvPr/>
        </p:nvSpPr>
        <p:spPr>
          <a:xfrm>
            <a:off x="457200" y="673200"/>
            <a:ext cx="824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Rectangle 4"/>
          <p:cNvSpPr/>
          <p:nvPr/>
        </p:nvSpPr>
        <p:spPr>
          <a:xfrm>
            <a:off x="1447920" y="76320"/>
            <a:ext cx="7086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Annotated SciFlo Docu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3" name="Picture 2" descr=""/>
          <p:cNvPicPr/>
          <p:nvPr/>
        </p:nvPicPr>
        <p:blipFill>
          <a:blip r:embed="rId1"/>
          <a:stretch/>
        </p:blipFill>
        <p:spPr>
          <a:xfrm>
            <a:off x="609480" y="685800"/>
            <a:ext cx="7925040" cy="616104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Text Box 2"/>
          <p:cNvSpPr/>
          <p:nvPr/>
        </p:nvSpPr>
        <p:spPr>
          <a:xfrm>
            <a:off x="457200" y="673200"/>
            <a:ext cx="824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Rectangle 4"/>
          <p:cNvSpPr/>
          <p:nvPr/>
        </p:nvSpPr>
        <p:spPr>
          <a:xfrm>
            <a:off x="1447920" y="76320"/>
            <a:ext cx="7086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Auto-generated SciFlo Input 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6" name="Picture 2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315200" cy="6127920"/>
          </a:xfrm>
          <a:prstGeom prst="rect">
            <a:avLst/>
          </a:prstGeom>
          <a:ln w="0">
            <a:noFill/>
          </a:ln>
        </p:spPr>
      </p:pic>
      <p:sp>
        <p:nvSpPr>
          <p:cNvPr id="667" name="TextBox 5"/>
          <p:cNvSpPr/>
          <p:nvPr/>
        </p:nvSpPr>
        <p:spPr>
          <a:xfrm>
            <a:off x="7227360" y="1447920"/>
            <a:ext cx="16804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Input widg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8" name="Straight Arrow Connector 7"/>
          <p:cNvCxnSpPr>
            <a:stCxn id="667" idx="2"/>
          </p:cNvCxnSpPr>
          <p:nvPr/>
        </p:nvCxnSpPr>
        <p:spPr>
          <a:xfrm flipH="1">
            <a:off x="7085880" y="1847520"/>
            <a:ext cx="981720" cy="515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69" name="Straight Arrow Connector 9"/>
          <p:cNvCxnSpPr>
            <a:stCxn id="667" idx="2"/>
          </p:cNvCxnSpPr>
          <p:nvPr/>
        </p:nvCxnSpPr>
        <p:spPr>
          <a:xfrm flipH="1">
            <a:off x="7619400" y="1847520"/>
            <a:ext cx="448200" cy="972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p:transition>
    <p:split dir="in" orient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Text Box 2"/>
          <p:cNvSpPr/>
          <p:nvPr/>
        </p:nvSpPr>
        <p:spPr>
          <a:xfrm>
            <a:off x="457200" y="673200"/>
            <a:ext cx="824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Rectangle 4"/>
          <p:cNvSpPr/>
          <p:nvPr/>
        </p:nvSpPr>
        <p:spPr>
          <a:xfrm>
            <a:off x="1447920" y="76320"/>
            <a:ext cx="65530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Processing Step #1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TextBox 4"/>
          <p:cNvSpPr/>
          <p:nvPr/>
        </p:nvSpPr>
        <p:spPr>
          <a:xfrm>
            <a:off x="2616480" y="681120"/>
            <a:ext cx="414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 to versioned web ser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3" name="Picture 2" descr=""/>
          <p:cNvPicPr/>
          <p:nvPr/>
        </p:nvPicPr>
        <p:blipFill>
          <a:blip r:embed="rId1"/>
          <a:stretch/>
        </p:blipFill>
        <p:spPr>
          <a:xfrm>
            <a:off x="128520" y="1209600"/>
            <a:ext cx="8886960" cy="488628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Text Box 2"/>
          <p:cNvSpPr/>
          <p:nvPr/>
        </p:nvSpPr>
        <p:spPr>
          <a:xfrm>
            <a:off x="457200" y="673200"/>
            <a:ext cx="824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Rectangle 4"/>
          <p:cNvSpPr/>
          <p:nvPr/>
        </p:nvSpPr>
        <p:spPr>
          <a:xfrm>
            <a:off x="1447920" y="76320"/>
            <a:ext cx="65530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Processing Step #2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TextBox 4"/>
          <p:cNvSpPr/>
          <p:nvPr/>
        </p:nvSpPr>
        <p:spPr>
          <a:xfrm>
            <a:off x="2616840" y="681120"/>
            <a:ext cx="455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 to method in python mod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7" name="Picture 2" descr=""/>
          <p:cNvPicPr/>
          <p:nvPr/>
        </p:nvPicPr>
        <p:blipFill>
          <a:blip r:embed="rId1"/>
          <a:stretch/>
        </p:blipFill>
        <p:spPr>
          <a:xfrm>
            <a:off x="76320" y="1239840"/>
            <a:ext cx="8991360" cy="3941640"/>
          </a:xfrm>
          <a:prstGeom prst="rect">
            <a:avLst/>
          </a:prstGeom>
          <a:ln w="0">
            <a:noFill/>
          </a:ln>
        </p:spPr>
      </p:pic>
      <p:sp>
        <p:nvSpPr>
          <p:cNvPr id="678" name="TextBox 6"/>
          <p:cNvSpPr/>
          <p:nvPr/>
        </p:nvSpPr>
        <p:spPr>
          <a:xfrm>
            <a:off x="685800" y="5257800"/>
            <a:ext cx="7010280" cy="100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sion provenanc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Execution engine adds version anno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Or here code bundle is versio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Text Box 2"/>
          <p:cNvSpPr/>
          <p:nvPr/>
        </p:nvSpPr>
        <p:spPr>
          <a:xfrm>
            <a:off x="457200" y="673200"/>
            <a:ext cx="824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Rectangle 4"/>
          <p:cNvSpPr/>
          <p:nvPr/>
        </p:nvSpPr>
        <p:spPr>
          <a:xfrm>
            <a:off x="1447920" y="76320"/>
            <a:ext cx="65530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Annotated Results Se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TextBox 4"/>
          <p:cNvSpPr/>
          <p:nvPr/>
        </p:nvSpPr>
        <p:spPr>
          <a:xfrm>
            <a:off x="2088360" y="681120"/>
            <a:ext cx="543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ults document exact granules u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2" name="Picture 2" descr=""/>
          <p:cNvPicPr/>
          <p:nvPr/>
        </p:nvPicPr>
        <p:blipFill>
          <a:blip r:embed="rId1"/>
          <a:stretch/>
        </p:blipFill>
        <p:spPr>
          <a:xfrm>
            <a:off x="42840" y="1143000"/>
            <a:ext cx="9024840" cy="519588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Text Box 2"/>
          <p:cNvSpPr/>
          <p:nvPr/>
        </p:nvSpPr>
        <p:spPr>
          <a:xfrm>
            <a:off x="457200" y="673200"/>
            <a:ext cx="824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Rectangle 4"/>
          <p:cNvSpPr/>
          <p:nvPr/>
        </p:nvSpPr>
        <p:spPr>
          <a:xfrm>
            <a:off x="1447920" y="76320"/>
            <a:ext cx="65530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Annotated Results (2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TextBox 4"/>
          <p:cNvSpPr/>
          <p:nvPr/>
        </p:nvSpPr>
        <p:spPr>
          <a:xfrm>
            <a:off x="1709280" y="681120"/>
            <a:ext cx="651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mediate results from each processing ste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6" name="Picture 2" descr=""/>
          <p:cNvPicPr/>
          <p:nvPr/>
        </p:nvPicPr>
        <p:blipFill>
          <a:blip r:embed="rId1"/>
          <a:stretch/>
        </p:blipFill>
        <p:spPr>
          <a:xfrm>
            <a:off x="27000" y="1147680"/>
            <a:ext cx="9040680" cy="49482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Text Box 3"/>
          <p:cNvSpPr/>
          <p:nvPr/>
        </p:nvSpPr>
        <p:spPr>
          <a:xfrm>
            <a:off x="3276720" y="228600"/>
            <a:ext cx="22096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Text Box 4"/>
          <p:cNvSpPr/>
          <p:nvPr/>
        </p:nvSpPr>
        <p:spPr>
          <a:xfrm>
            <a:off x="1295280" y="685800"/>
            <a:ext cx="7239240" cy="58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buClr>
                <a:srgbClr val="0000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cf"/>
                </a:solidFill>
                <a:latin typeface="Arial"/>
              </a:rPr>
              <a:t>Decade-Scale Climate Science Using Workflow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buClr>
                <a:srgbClr val="0000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cf"/>
                </a:solidFill>
                <a:latin typeface="Arial"/>
              </a:rPr>
              <a:t>Review of SciFlo:  Scientific DataFlow Engi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buClr>
                <a:srgbClr val="0000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cf"/>
                </a:solidFill>
                <a:latin typeface="Arial"/>
              </a:rPr>
              <a:t>Uses of Proven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buClr>
                <a:srgbClr val="0000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cf"/>
                </a:solidFill>
                <a:latin typeface="Arial"/>
              </a:rPr>
              <a:t>Auto-provenance from dataflow execution eng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spcBef>
                <a:spcPts val="1250"/>
              </a:spcBef>
              <a:buClr>
                <a:srgbClr val="0000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f"/>
                </a:solidFill>
                <a:latin typeface="Arial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or versions, annotated results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buClr>
                <a:srgbClr val="0000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f"/>
                </a:solidFill>
                <a:latin typeface="Arial"/>
              </a:rPr>
              <a:t> “</a:t>
            </a:r>
            <a:r>
              <a:rPr b="0" lang="en-US" sz="2400" spc="-1" strike="noStrike">
                <a:solidFill>
                  <a:srgbClr val="0000cf"/>
                </a:solidFill>
                <a:latin typeface="Arial"/>
              </a:rPr>
              <a:t>Practical Provenanc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spcBef>
                <a:spcPts val="1250"/>
              </a:spcBef>
              <a:buClr>
                <a:srgbClr val="0000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f"/>
                </a:solidFill>
                <a:latin typeface="Arial"/>
                <a:ea typeface="ＭＳ Ｐゴシック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mit to workfl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spcBef>
                <a:spcPts val="1250"/>
              </a:spcBef>
              <a:buClr>
                <a:srgbClr val="0000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et basic provenance for fr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spcBef>
                <a:spcPts val="1250"/>
              </a:spcBef>
              <a:buClr>
                <a:srgbClr val="0000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producible workfl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spcBef>
                <a:spcPts val="1250"/>
              </a:spcBef>
              <a:buClr>
                <a:srgbClr val="0000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web graph to store re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Text Box 2"/>
          <p:cNvSpPr/>
          <p:nvPr/>
        </p:nvSpPr>
        <p:spPr>
          <a:xfrm>
            <a:off x="6561720" y="136692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Rounded MT Bold"/>
              </a:rPr>
              <a:t>Carbon Cyc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Text Box 3"/>
          <p:cNvSpPr/>
          <p:nvPr/>
        </p:nvSpPr>
        <p:spPr>
          <a:xfrm>
            <a:off x="792000" y="698400"/>
            <a:ext cx="7931160" cy="588420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2280" bIns="0" anchor="t">
            <a:spAutoFit/>
          </a:bodyPr>
          <a:p>
            <a:pPr marL="262080" indent="-262080">
              <a:buClr>
                <a:srgbClr val="333399"/>
              </a:buClr>
              <a:buSzPct val="60000"/>
              <a:buFont typeface="Zapf Dingbat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Web Services &amp; Operators versio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262080">
              <a:lnSpc>
                <a:spcPct val="100000"/>
              </a:lnSpc>
              <a:buClr>
                <a:srgbClr val="333399"/>
              </a:buClr>
              <a:buSzPct val="60000"/>
              <a:buFont typeface="Zapf Dingbat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ersioned URI’s or anno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262080">
              <a:lnSpc>
                <a:spcPct val="100000"/>
              </a:lnSpc>
              <a:buClr>
                <a:srgbClr val="333399"/>
              </a:buClr>
              <a:buSzPct val="60000"/>
              <a:buFont typeface="Zapf Dingbat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snapshot code bundles, or better a virtual image of OS with installed opera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262080">
              <a:lnSpc>
                <a:spcPct val="100000"/>
              </a:lnSpc>
              <a:buClr>
                <a:srgbClr val="333399"/>
              </a:buClr>
              <a:buSzPct val="60000"/>
              <a:buFont typeface="Zapf Dingbat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buClr>
                <a:srgbClr val="333399"/>
              </a:buClr>
              <a:buSzPct val="60000"/>
              <a:buFont typeface="Zapf Dingbat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Save (small) intermediate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262080">
              <a:lnSpc>
                <a:spcPct val="100000"/>
              </a:lnSpc>
              <a:buClr>
                <a:srgbClr val="333399"/>
              </a:buClr>
              <a:buSzPct val="60000"/>
              <a:buFont typeface="Zapf Dingbat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articularly, list of input data granules returned from qu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262080">
              <a:lnSpc>
                <a:spcPct val="100000"/>
              </a:lnSpc>
              <a:buClr>
                <a:srgbClr val="333399"/>
              </a:buClr>
              <a:buSzPct val="60000"/>
              <a:buFont typeface="Zapf Dingbat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still reproduce workflow even if service/op unavail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262080">
              <a:lnSpc>
                <a:spcPct val="100000"/>
              </a:lnSpc>
              <a:buClr>
                <a:srgbClr val="333399"/>
              </a:buClr>
              <a:buSzPct val="60000"/>
              <a:buFont typeface="Zapf Dingbat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ciFlo user controls what is sav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262080">
              <a:lnSpc>
                <a:spcPct val="100000"/>
              </a:lnSpc>
              <a:buClr>
                <a:srgbClr val="333399"/>
              </a:buClr>
              <a:buSzPct val="60000"/>
              <a:buFont typeface="Zapf Dingbat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buClr>
                <a:srgbClr val="333399"/>
              </a:buClr>
              <a:buSzPct val="60000"/>
              <a:buFont typeface="Zapf Dingbat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Provenance is contained in annotated SciFlo doc. and resources it links to (URI’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262080">
              <a:lnSpc>
                <a:spcPct val="100000"/>
              </a:lnSpc>
              <a:buClr>
                <a:srgbClr val="333399"/>
              </a:buClr>
              <a:buSzPct val="60000"/>
              <a:buFont typeface="Zapf Dingbat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venance is immediately returned to user with resul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262080">
              <a:lnSpc>
                <a:spcPct val="100000"/>
              </a:lnSpc>
              <a:buClr>
                <a:srgbClr val="333399"/>
              </a:buClr>
              <a:buSzPct val="60000"/>
              <a:buFont typeface="Zapf Dingbat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stributed provenance implicit in links between workfl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262080">
              <a:lnSpc>
                <a:spcPct val="100000"/>
              </a:lnSpc>
              <a:buClr>
                <a:srgbClr val="333399"/>
              </a:buClr>
              <a:buSzPct val="60000"/>
              <a:buFont typeface="Zapf Dingbat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 replicas can be bundled according to user poli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262080">
              <a:lnSpc>
                <a:spcPct val="100000"/>
              </a:lnSpc>
              <a:buClr>
                <a:srgbClr val="333399"/>
              </a:buClr>
              <a:buSzPct val="60000"/>
              <a:buFont typeface="Zapf Dingbat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base not necessary, but can be used for archiving/qu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262080">
              <a:lnSpc>
                <a:spcPct val="100000"/>
              </a:lnSpc>
              <a:buClr>
                <a:srgbClr val="333399"/>
              </a:buClr>
              <a:buSzPct val="60000"/>
              <a:buFont typeface="Zapf Dingbat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venance graph can be transformed to OPM/XML for interoper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buClr>
                <a:srgbClr val="333399"/>
              </a:buClr>
              <a:buSzPct val="60000"/>
              <a:buFont typeface="Zapf Dingbat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Text Box 4"/>
          <p:cNvSpPr/>
          <p:nvPr/>
        </p:nvSpPr>
        <p:spPr>
          <a:xfrm>
            <a:off x="609480" y="82440"/>
            <a:ext cx="8094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f"/>
                </a:solidFill>
                <a:latin typeface="Arial"/>
              </a:rPr>
              <a:t>Provenance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Text Box 2"/>
          <p:cNvSpPr/>
          <p:nvPr/>
        </p:nvSpPr>
        <p:spPr>
          <a:xfrm>
            <a:off x="6561720" y="136692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Rounded MT Bold"/>
              </a:rPr>
              <a:t>Carbon Cyc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Text Box 3"/>
          <p:cNvSpPr/>
          <p:nvPr/>
        </p:nvSpPr>
        <p:spPr>
          <a:xfrm>
            <a:off x="1066680" y="762120"/>
            <a:ext cx="7931160" cy="551844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2280" bIns="0" anchor="t">
            <a:spAutoFit/>
          </a:bodyPr>
          <a:p>
            <a:pPr marL="262080" indent="-262080">
              <a:buClr>
                <a:srgbClr val="333399"/>
              </a:buClr>
              <a:buSzPct val="60000"/>
              <a:buFont typeface="Zapf Dingbat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Commit to Workflow (many other benefi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262080">
              <a:lnSpc>
                <a:spcPct val="100000"/>
              </a:lnSpc>
              <a:buClr>
                <a:srgbClr val="333399"/>
              </a:buClr>
              <a:buSzPct val="60000"/>
              <a:buFont typeface="Zapf Dingbat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clarative production stre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262080">
              <a:lnSpc>
                <a:spcPct val="100000"/>
              </a:lnSpc>
              <a:buClr>
                <a:srgbClr val="333399"/>
              </a:buClr>
              <a:buSzPct val="60000"/>
              <a:buFont typeface="Zapf Dingbat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uto-parallel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262080">
              <a:lnSpc>
                <a:spcPct val="100000"/>
              </a:lnSpc>
              <a:buClr>
                <a:srgbClr val="333399"/>
              </a:buClr>
              <a:buSzPct val="60000"/>
              <a:buFont typeface="Zapf Dingbat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orkflow can be distributed using web services (multi-sensor, multi-data center scie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262080">
              <a:lnSpc>
                <a:spcPct val="100000"/>
              </a:lnSpc>
              <a:buClr>
                <a:srgbClr val="333399"/>
              </a:buClr>
              <a:buSzPct val="60000"/>
              <a:buFont typeface="Zapf Dingbat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buClr>
                <a:srgbClr val="333399"/>
              </a:buClr>
              <a:buSzPct val="60000"/>
              <a:buFont typeface="Zapf Dingbat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Get Basic Provenance For F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262080">
              <a:lnSpc>
                <a:spcPct val="100000"/>
              </a:lnSpc>
              <a:buClr>
                <a:srgbClr val="333399"/>
              </a:buClr>
              <a:buSzPct val="60000"/>
              <a:buFont typeface="Zapf Dingbat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 need to instrument production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262080">
              <a:lnSpc>
                <a:spcPct val="100000"/>
              </a:lnSpc>
              <a:buClr>
                <a:srgbClr val="333399"/>
              </a:buClr>
              <a:buSzPct val="60000"/>
              <a:buFont typeface="Zapf Dingbat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venance graph implicit in SciFlo document &amp; REST UR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262080">
              <a:lnSpc>
                <a:spcPct val="100000"/>
              </a:lnSpc>
              <a:buClr>
                <a:srgbClr val="333399"/>
              </a:buClr>
              <a:buSzPct val="60000"/>
              <a:buFont typeface="Zapf Dingbat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eb graph of permanent re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262080">
              <a:lnSpc>
                <a:spcPct val="100000"/>
              </a:lnSpc>
              <a:buClr>
                <a:srgbClr val="333399"/>
              </a:buClr>
              <a:buSzPct val="60000"/>
              <a:buFont typeface="Zapf Dingbat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y policy, can archive resource replicas (with URL redirec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262080">
              <a:lnSpc>
                <a:spcPct val="100000"/>
              </a:lnSpc>
              <a:buClr>
                <a:srgbClr val="333399"/>
              </a:buClr>
              <a:buSzPct val="60000"/>
              <a:buFont typeface="Zapf Dingbat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buClr>
                <a:srgbClr val="333399"/>
              </a:buClr>
              <a:buSzPct val="60000"/>
              <a:buFont typeface="Zapf Dingbat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Web Services E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262080">
              <a:lnSpc>
                <a:spcPct val="100000"/>
              </a:lnSpc>
              <a:buClr>
                <a:srgbClr val="333399"/>
              </a:buClr>
              <a:buSzPct val="60000"/>
              <a:buFont typeface="Zapf Dingbat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stributed provenance is import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262080">
              <a:lnSpc>
                <a:spcPct val="100000"/>
              </a:lnSpc>
              <a:buClr>
                <a:srgbClr val="333399"/>
              </a:buClr>
              <a:buSzPct val="60000"/>
              <a:buFont typeface="Zapf Dingbat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ciFlo or OPM docs. link to each o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262080">
              <a:lnSpc>
                <a:spcPct val="100000"/>
              </a:lnSpc>
              <a:buClr>
                <a:srgbClr val="333399"/>
              </a:buClr>
              <a:buSzPct val="60000"/>
              <a:buFont typeface="Zapf Dingbat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race full graph by following REST URL’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262080">
              <a:lnSpc>
                <a:spcPct val="100000"/>
              </a:lnSpc>
              <a:buClr>
                <a:srgbClr val="333399"/>
              </a:buClr>
              <a:buSzPct val="60000"/>
              <a:buFont typeface="Zapf Dingbat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producible workfl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buClr>
                <a:srgbClr val="333399"/>
              </a:buClr>
              <a:buSzPct val="60000"/>
              <a:buFont typeface="Zapf Dingbat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Text Box 4"/>
          <p:cNvSpPr/>
          <p:nvPr/>
        </p:nvSpPr>
        <p:spPr>
          <a:xfrm>
            <a:off x="609480" y="82440"/>
            <a:ext cx="8094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f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0000cf"/>
                </a:solidFill>
                <a:latin typeface="Arial"/>
              </a:rPr>
              <a:t>Practical” Proven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1447920" y="75960"/>
            <a:ext cx="716256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Large-Scale, Distributed Data Fu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542880" y="866880"/>
            <a:ext cx="8353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marL="250200" indent="-25020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Find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Level-2 datasets across multiple data cen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2160" indent="-2084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ace/time granule query for multiple EOS (“A-Train”) instruments – AIRS, AMSR-E, AMSU, MODIS, Cloudsat, G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o-locate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retrievals using space/time 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2160" indent="-2084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antaneous “matchups” in space &amp;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Read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th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2160" indent="-2084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mperature, water vapor, quality flags, cloud properties (HDF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Understand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th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2160" indent="-2084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s, quality control (non-trivial !!)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Publish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merged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produ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2160" indent="-2084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ter vapor climatology, stratified by Cloudsat cloud cla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Publish multi-sensor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“fused”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produ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2160" indent="-2084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termine instrument biases, understand by stratify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2160" indent="-2084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se L2 data on a common gr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2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2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Text Box 2"/>
          <p:cNvSpPr/>
          <p:nvPr/>
        </p:nvSpPr>
        <p:spPr>
          <a:xfrm>
            <a:off x="1193760" y="720720"/>
            <a:ext cx="71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4b81"/>
                </a:solidFill>
                <a:latin typeface="Arial"/>
              </a:rPr>
              <a:t>AIRS/GPS Temperature &amp; Water Vapor Comparison Pl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Rectangle 4"/>
          <p:cNvSpPr/>
          <p:nvPr/>
        </p:nvSpPr>
        <p:spPr>
          <a:xfrm>
            <a:off x="1009800" y="76320"/>
            <a:ext cx="72198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f"/>
                </a:solidFill>
                <a:latin typeface="Arial"/>
              </a:rPr>
              <a:t>AIRS / GPS Matchu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2" name="Picture 5" descr="cmp_plot"/>
          <p:cNvPicPr/>
          <p:nvPr/>
        </p:nvPicPr>
        <p:blipFill>
          <a:blip r:embed="rId1"/>
          <a:stretch/>
        </p:blipFill>
        <p:spPr>
          <a:xfrm>
            <a:off x="1090440" y="1133640"/>
            <a:ext cx="6972480" cy="522108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Text Box 2"/>
          <p:cNvSpPr/>
          <p:nvPr/>
        </p:nvSpPr>
        <p:spPr>
          <a:xfrm>
            <a:off x="735120" y="708120"/>
            <a:ext cx="7839000" cy="516924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2280" bIns="0" anchor="t">
            <a:spAutoFit/>
          </a:bodyPr>
          <a:p>
            <a:pPr marL="262080" indent="-262080">
              <a:spcBef>
                <a:spcPts val="601"/>
              </a:spcBef>
              <a:buClr>
                <a:srgbClr val="333399"/>
              </a:buClr>
              <a:buSzPct val="60000"/>
              <a:buFont typeface="Zapf Dingbat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Automate large-scale, multi-instrument science processing by 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authoring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a dataflow document that specifies a 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tree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of 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executable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operators/servi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3652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SzPct val="60000"/>
              <a:buFont typeface="Zapf Dingbat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f"/>
                </a:solidFill>
                <a:latin typeface="Arial"/>
                <a:ea typeface="ＭＳ Ｐゴシック"/>
              </a:rPr>
              <a:t>VizFlow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Visual Authoring Tool (AJAX GUI in brows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3652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SzPct val="60000"/>
              <a:buFont typeface="Zapf Dingbat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stributed Dataflow Execution Engine (in pyth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3652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SzPct val="60000"/>
              <a:buFont typeface="Zapf Dingbat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f"/>
                </a:solidFill>
                <a:latin typeface="Arial"/>
                <a:ea typeface="ＭＳ Ｐゴシック"/>
              </a:rPr>
              <a:t>Data Grid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Move data “granules” to the operators using FTP, HTTP, or OpenDAP UR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3652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SzPct val="60000"/>
              <a:buFont typeface="Zapf Dingbat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f"/>
                </a:solidFill>
                <a:latin typeface="Arial"/>
                <a:ea typeface="ＭＳ Ｐゴシック"/>
              </a:rPr>
              <a:t>Compute Grid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Move operators (executables) to the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3652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SzPct val="60000"/>
              <a:buFont typeface="Zapf Dingbat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ilt-in reusable operators provided for many tasks such as subsetting, co-registration, regridding, data fusion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3652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SzPct val="60000"/>
              <a:buFont typeface="Zapf Dingbat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ustom operators easily plugged in by scientis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3652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SzPct val="60000"/>
              <a:buFont typeface="Zapf Dingbat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everage convergence of Web Services (SOAP) with Grid Services (Globus toolkit v4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36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Text Box 3"/>
          <p:cNvSpPr/>
          <p:nvPr/>
        </p:nvSpPr>
        <p:spPr>
          <a:xfrm>
            <a:off x="457200" y="88920"/>
            <a:ext cx="824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ciFlo Workflow Eng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914400" y="75960"/>
            <a:ext cx="7696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ervice/Operator Orchest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990360" y="828720"/>
            <a:ext cx="78483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Each SciFlo processing step is one of:</a:t>
            </a:r>
            <a:br>
              <a:rPr sz="2800"/>
            </a:b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Templa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XML (or string) gen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RE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http GET) call:  e.g. WMS/WCS, DAP UR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SOA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ervice call:  “have WSDL, will call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X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2.0 transformation for XML medi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XQuer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1.0 query/trans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-line script or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execu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Pyth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ethod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ientist’s custom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IDL or MATLA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(What do you need?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Text Box 2"/>
          <p:cNvSpPr/>
          <p:nvPr/>
        </p:nvSpPr>
        <p:spPr>
          <a:xfrm>
            <a:off x="457200" y="673200"/>
            <a:ext cx="824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Rectangle 3"/>
          <p:cNvSpPr/>
          <p:nvPr/>
        </p:nvSpPr>
        <p:spPr>
          <a:xfrm>
            <a:off x="1104840" y="703440"/>
            <a:ext cx="732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GPS-AIRS Matchup &amp; Temp. Profile Compari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Rectangle 4"/>
          <p:cNvSpPr/>
          <p:nvPr/>
        </p:nvSpPr>
        <p:spPr>
          <a:xfrm>
            <a:off x="1600200" y="76320"/>
            <a:ext cx="6095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VizFlow Flowcha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0" name="Picture 5" descr="GpsAirsComparsion_vizflow_canvas"/>
          <p:cNvPicPr/>
          <p:nvPr/>
        </p:nvPicPr>
        <p:blipFill>
          <a:blip r:embed="rId1"/>
          <a:stretch/>
        </p:blipFill>
        <p:spPr>
          <a:xfrm>
            <a:off x="1171440" y="1276200"/>
            <a:ext cx="6934320" cy="4718160"/>
          </a:xfrm>
          <a:prstGeom prst="rect">
            <a:avLst/>
          </a:prstGeom>
          <a:ln w="0">
            <a:noFill/>
          </a:ln>
        </p:spPr>
      </p:pic>
      <p:sp>
        <p:nvSpPr>
          <p:cNvPr id="641" name="Text Box 6"/>
          <p:cNvSpPr/>
          <p:nvPr/>
        </p:nvSpPr>
        <p:spPr>
          <a:xfrm>
            <a:off x="1995480" y="4781520"/>
            <a:ext cx="602964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nect a series of services and operators into a datafl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Drag</a:t>
            </a:r>
            <a:r>
              <a:rPr b="1" lang="en-US" sz="14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 services/operators from menu, and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drop</a:t>
            </a:r>
            <a:r>
              <a:rPr b="1" lang="en-US" sz="14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 onto the canv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Lay out</a:t>
            </a:r>
            <a:r>
              <a:rPr b="1" lang="en-US" sz="14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 the flowchart by moving nod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Connect</a:t>
            </a:r>
            <a:r>
              <a:rPr b="1" lang="en-US" sz="14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 the input/output ports by drawing 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 </a:t>
            </a:r>
            <a:r>
              <a:rPr b="1" lang="en-US" sz="14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User guided by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matching</a:t>
            </a:r>
            <a:r>
              <a:rPr b="1" lang="en-US" sz="14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 up port names and typ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1676520" y="98280"/>
            <a:ext cx="6889680" cy="3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ciFlo As an Authoring Toolk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933120" y="876240"/>
            <a:ext cx="7559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marL="250200" indent="-25020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Assemble operators by writing XML doc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2160" indent="-2084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nect SOAP data query/access services to custom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able algorithms written by scienti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2160" indent="-2084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L, MATLAB, or python codes can become opera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216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SciFlo Engine automatic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2160" indent="-208440">
              <a:spcBef>
                <a:spcPts val="4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Generat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eb (HTML) form to call the fl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2160" indent="-208440">
              <a:spcBef>
                <a:spcPts val="4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Publish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ustom flow as a new SOAP service (if desir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216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Create many SOAP Services Automa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2160" indent="-2084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glue or SOAP code to wr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2160" indent="-2084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ly write science algorithms, in language of cho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216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Publish Analysis Flo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2160" indent="-2084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change SciFlo docu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2160" indent="-2084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ted products have lineage &amp; user anno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Text Box 2"/>
          <p:cNvSpPr/>
          <p:nvPr/>
        </p:nvSpPr>
        <p:spPr>
          <a:xfrm>
            <a:off x="6561720" y="136692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Rounded MT Bold"/>
              </a:rPr>
              <a:t>Carbon Cyc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Text Box 3"/>
          <p:cNvSpPr/>
          <p:nvPr/>
        </p:nvSpPr>
        <p:spPr>
          <a:xfrm>
            <a:off x="792000" y="698400"/>
            <a:ext cx="7931160" cy="618912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2280" bIns="0" anchor="t">
            <a:spAutoFit/>
          </a:bodyPr>
          <a:p>
            <a:pPr marL="262080" indent="-262080">
              <a:buClr>
                <a:srgbClr val="333399"/>
              </a:buClr>
              <a:buSzPct val="60000"/>
              <a:buFont typeface="Zapf Dingbat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AMAPS = Aerosol Modeling And Processing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36520">
              <a:lnSpc>
                <a:spcPct val="100000"/>
              </a:lnSpc>
              <a:buClr>
                <a:srgbClr val="333399"/>
              </a:buClr>
              <a:buSzPct val="60000"/>
              <a:buFont typeface="Zapf Dingbat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my Braverman, ACCESS PI; Joyce Penner, U. Michig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36520">
              <a:lnSpc>
                <a:spcPct val="100000"/>
              </a:lnSpc>
              <a:buClr>
                <a:srgbClr val="333399"/>
              </a:buClr>
              <a:buSzPct val="60000"/>
              <a:buFont typeface="Zapf Dingbat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are Aerosol Optical Depth (AOD) from MODIS, MISR, &amp; AERONET to IMPACT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36520">
              <a:lnSpc>
                <a:spcPct val="100000"/>
              </a:lnSpc>
              <a:buClr>
                <a:srgbClr val="333399"/>
              </a:buClr>
              <a:buSzPct val="60000"/>
              <a:buFont typeface="Zapf Dingbat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buClr>
                <a:srgbClr val="333399"/>
              </a:buClr>
              <a:buSzPct val="60000"/>
              <a:buFont typeface="Zapf Dingbat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AQUA = Automated Query &amp; Ac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36520">
              <a:lnSpc>
                <a:spcPct val="100000"/>
              </a:lnSpc>
              <a:buClr>
                <a:srgbClr val="333399"/>
              </a:buClr>
              <a:buSzPct val="60000"/>
              <a:buFont typeface="Zapf Dingbat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ne-year ACCESS ECHO grant (Brian Wilson, P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36520">
              <a:lnSpc>
                <a:spcPct val="100000"/>
              </a:lnSpc>
              <a:buClr>
                <a:srgbClr val="333399"/>
              </a:buClr>
              <a:buSzPct val="60000"/>
              <a:buFont typeface="Zapf Dingbat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utomated, repeatable access to 5-year EOS datasets for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rge-sca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data mining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buClr>
                <a:srgbClr val="333399"/>
              </a:buClr>
              <a:buSzPct val="60000"/>
              <a:buFont typeface="Zapf Dingbat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MEASUREs Project – Eric Fetzer, 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36520">
              <a:lnSpc>
                <a:spcPct val="100000"/>
              </a:lnSpc>
              <a:buClr>
                <a:srgbClr val="333399"/>
              </a:buClr>
              <a:buSzPct val="60000"/>
              <a:buFont typeface="Zapf Dingbat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ublish a temperature &amp; water vapor climatology stratified by cloud scene (CloudSat classes) using A-Train data (AIRS, AMSR-E, AMSU, MODIS, ML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buClr>
                <a:srgbClr val="333399"/>
              </a:buClr>
              <a:buSzPct val="60000"/>
              <a:buFont typeface="Zapf Dingbat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buClr>
                <a:srgbClr val="333399"/>
              </a:buClr>
              <a:buSzPct val="60000"/>
              <a:buFont typeface="Zapf Dingbat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Cimate Virtual Observ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36520">
              <a:lnSpc>
                <a:spcPct val="100000"/>
              </a:lnSpc>
              <a:buClr>
                <a:srgbClr val="333399"/>
              </a:buClr>
              <a:buSzPct val="60000"/>
              <a:buFont typeface="Zapf Dingbat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amine the biases of temperature retrievals from AIRS, AMSU, MLS by comparisons to GPS oc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36520">
              <a:lnSpc>
                <a:spcPct val="100000"/>
              </a:lnSpc>
              <a:buClr>
                <a:srgbClr val="333399"/>
              </a:buClr>
              <a:buSzPct val="60000"/>
              <a:buFont typeface="Zapf Dingbat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ratify biases by geophysical conditions, cloud scene, etc.; study decade-scale tre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Text Box 4"/>
          <p:cNvSpPr/>
          <p:nvPr/>
        </p:nvSpPr>
        <p:spPr>
          <a:xfrm>
            <a:off x="638280" y="82440"/>
            <a:ext cx="824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f"/>
                </a:solidFill>
                <a:latin typeface="Arial"/>
              </a:rPr>
              <a:t>SciFlo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3T17:22:41Z</dcterms:created>
  <dc:creator>JPL</dc:creator>
  <dc:description/>
  <dc:language>en-US</dc:language>
  <cp:lastModifiedBy>Jet Propulsion Laboratory</cp:lastModifiedBy>
  <dcterms:modified xsi:type="dcterms:W3CDTF">2009-07-08T20:29:42Z</dcterms:modified>
  <cp:revision>422</cp:revision>
  <dc:subject/>
  <dc:title>PowerPoint Presentation</dc:title>
</cp:coreProperties>
</file>